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ashington Naval Conference of 1921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atrick Na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First Disarmament Conference in Histor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ld in 1921 to 192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jor Naval powers were invited and attended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22226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reat Britain, France and Japan were invited to take parts in talks of reduction of naval capac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22226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rtugal, Belgium, China and The Netherlands were invited to take part in talks of situation in the Far Ea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ught to prevent the possibility of another wa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Conference resulted in..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 Power Trea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ve Power Trea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ine Power Trea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leets were limited in size and capac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ease the production of Battleship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Spirit of this Agreement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Maintenance of peace and prosperity in the Pacifi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end the Japanese Expansion and thus, a potential thre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Immediate Resul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great deal of money was saved due to the naval limi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ffectively calmed the tension building up in the Pacific and the Far Ea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Problem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ssive Loophole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nt onto build smaller, more effective, but most importantly, UNRESTRICTED vesse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nabled the rise of the Japanese Empire as a Naval pow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